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A861F795-8D13-4B22-8C83-5AF7478F780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Img"/>
          </p:nvPr>
        </p:nvSpPr>
        <p:spPr>
          <a:xfrm>
            <a:off x="894600" y="752760"/>
            <a:ext cx="4953240" cy="371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4548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37720" y="3943440"/>
            <a:ext cx="784548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7720" y="394344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57840" y="394344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90560" y="167652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43400" y="167652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37720" y="394344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90560" y="394344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43400" y="394344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784548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9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4548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38080" y="380880"/>
            <a:ext cx="7769520" cy="38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9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37720" y="394344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7840" y="394344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7720" y="3943440"/>
            <a:ext cx="784548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632448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Bitstream Vera Sans"/>
              </a:rPr>
              <a:t>IT Kolledzh/TTÜ 2005        T.Tammet     IT sissejuhatus loeng 2      lk    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- </a:t>
            </a:r>
            <a:fld id="{075CF267-FDE3-42EF-AFA2-E57FFB128BB3}" type="slidenum"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7772400" cy="18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37720" y="1676520"/>
            <a:ext cx="784548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-22860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2057400" indent="-2286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2057400" indent="-2286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rmaatikasse</a:t>
            </a: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50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amon Lul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as: 1235-1315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üstik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eateos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Ars magna, generalis et ultima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96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149640" y="2057400"/>
            <a:ext cx="2539800" cy="2590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eonardo da Vinc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a 1500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lkulaatori jooni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iljem ehitatud katseeksempla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02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48120" y="1477800"/>
            <a:ext cx="3174840" cy="1113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895480" y="4419720"/>
            <a:ext cx="3175200" cy="1217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17 sajand: sümbolkeeled matemaatika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aloogilisi sümbolkeeli püüti luua loogika jaok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õik püüdlused ebaõnnestusid (kuni 19 sjandi lõpuni!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ilosoofia: nominalistide ja realistide dihhotoomi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09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chickard &amp; Pasca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12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chickard 1625: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äitis ehitanud olema liitva, lahutava, korrutava, jagava masin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ristlik filosoof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Blaise Pascal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640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itmeetiline masin: ainult liitis ja lahuta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hitas ca 50 tükki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14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800600" y="2895480"/>
            <a:ext cx="3174840" cy="1981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523880" y="2438280"/>
            <a:ext cx="2413080" cy="2667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eibniz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aksa filosoo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646-1716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eibnizi arvuti(1671)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liitis, lahutas, korrutas, jaga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eibniz lõi Boole’ga sarnaneva loogikasüsteemi, mis vajus unustuss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eibniz püüdis luua universaalset sümbolkeelt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lingua characteristica universali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 ja seda keelt kasutava nn ``arutlemise aritmeetika'’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Bitstream Vera Sans"/>
              </a:rPr>
              <a:t>calculus rationator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)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21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3302280" cy="1371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irjutusmasi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nglise patent, Henry Mill, 1714, ei ehitatu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meerika patent: 1829 William Austin Burt Detroidi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867, Christopher Latham Sholes, Carlos Glidden, Samual W. Soule leiutis: “Type-Writer“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mington:  1874 (jalgpedaaliga!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holes’ klaviatuur ca 1874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voraki klaviatuur ca 1936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27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971800" y="2971800"/>
            <a:ext cx="3174840" cy="12193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895480" y="5029200"/>
            <a:ext cx="3175200" cy="1219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erfokaar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a 1800, Jacquar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BM-i perfokaart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34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743200" y="1846440"/>
            <a:ext cx="3429000" cy="772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harles Babbag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822: Difference Engine, jäi pooleli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dee: Analytical Eng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simene programmeerija: Ada Lovelac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40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117440" y="1793880"/>
            <a:ext cx="2540160" cy="33876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384880" y="1793880"/>
            <a:ext cx="2539800" cy="3006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elegraaf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780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orse 1837: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lektritelegraaf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Wheatstone 1857: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perfolin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vutite perfolint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02-1910: teleprinte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47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743200" y="1319040"/>
            <a:ext cx="3174840" cy="15004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2743200" y="2895480"/>
            <a:ext cx="3174840" cy="5335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3048120" y="4379760"/>
            <a:ext cx="3174840" cy="1258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George Boole, de Morga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a (lausearvutuse) alused 1847-1854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temaatilise algebra ideede kasutamine loogika jaok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a algebr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1A = A, 0A = 0, A+0 = A, A+1 = 1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+B = B+A, AB = BA, AA = A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55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engu ülevaa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806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Jätk eelmisest loengu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hekäeline näiterobo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rvutite ja arvutiteaduse sünd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egade algus - teine maailmasõd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rane rehkendamise ajalugu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a tekk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vutamise teooria tekk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simesed arvutid 17 sajandi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dustrialiseerimise ideoloogi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õimaldav tehnoloogia: side ja mehaaniline infotöötlu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a ja arvutamise teooria väljaarenemine 20 sajandi esimesel pool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simesed võimsad arvutid teises maailmasõja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55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ausearvutuse alus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oogikatehted on funktsioonid tõeväärtustel T ja V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nimkasutatud tehted on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amp;     (ja e. konjunktsioon)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V    (või e. disjunktsioon)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-     (ei e. eitus)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=&gt;  (järeldus e. implikatsioon)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==   (samasus e. ekvivalents)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B       A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B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-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A       A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=&gt;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B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-------     --------     ----      --------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    T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  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  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  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 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          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 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          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60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ausearvutuse alus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63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lementaartehetest saab kokku panna suvalisi avaldisi, mi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realiseerivad tõeväärtusfunktsioo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(A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B))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=&gt;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(B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C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----------------------------  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 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2         1            4            3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65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aasaegse loogika alus: Gottlob Freg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93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1879: Kontseptuaalne notatsioon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"Begriffsschrift")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b kaasaegs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edikaatarvutus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äide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sa(Jaan,Mihkel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sa(Jaan,Ants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sa(Ants,Peeter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 x, y, z jaoks: Isa(x,y) &amp; Isa(y,z) =&gt; Vanaisa(x,z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õesta, et eksisteerivad z, u nii et Vanaisa(z,u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rege filosoofina: 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logitsi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70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000099"/>
                </a:solidFill>
                <a:latin typeface="Bitstream Vera Sans"/>
              </a:rPr>
              <a:t>Loogika mitmekesisus </a:t>
            </a:r>
            <a:endParaRPr b="1" lang="en-US" sz="20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75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 flipV="1">
            <a:off x="2895480" y="1063800"/>
            <a:ext cx="1800" cy="427320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5334120"/>
            <a:ext cx="4419720" cy="14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2120" y="44197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auservu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1280" y="3733920"/>
            <a:ext cx="247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edikaatarvu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520" y="30481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duktsioon jms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3520" y="22860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ist järku pred.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2280" y="160020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õrgemat järku pred.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973960" y="914400"/>
            <a:ext cx="1905120" cy="3996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bstrakts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5520" y="4648320"/>
            <a:ext cx="2918520" cy="3996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Väljendusvahend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438280" y="541008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nimaal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76720" y="57913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tuitsionistli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67080" y="54100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lassika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10080" y="57913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odaal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19920" y="54100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ineaar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924280" y="4390920"/>
            <a:ext cx="3012840" cy="930240"/>
          </a:xfrm>
          <a:custGeom>
            <a:avLst/>
            <a:gdLst/>
            <a:ahLst/>
            <a:rect l="l" t="t" r="r" b="b"/>
            <a:pathLst>
              <a:path w="8371" h="2582">
                <a:moveTo>
                  <a:pt x="0" y="0"/>
                </a:moveTo>
                <a:cubicBezTo>
                  <a:pt x="427" y="70"/>
                  <a:pt x="873" y="83"/>
                  <a:pt x="1287" y="216"/>
                </a:cubicBezTo>
                <a:cubicBezTo>
                  <a:pt x="1442" y="264"/>
                  <a:pt x="1874" y="414"/>
                  <a:pt x="2072" y="432"/>
                </a:cubicBezTo>
                <a:cubicBezTo>
                  <a:pt x="2623" y="480"/>
                  <a:pt x="4753" y="555"/>
                  <a:pt x="5150" y="573"/>
                </a:cubicBezTo>
                <a:cubicBezTo>
                  <a:pt x="5631" y="529"/>
                  <a:pt x="6094" y="489"/>
                  <a:pt x="6579" y="467"/>
                </a:cubicBezTo>
                <a:cubicBezTo>
                  <a:pt x="7210" y="507"/>
                  <a:pt x="7426" y="595"/>
                  <a:pt x="7942" y="895"/>
                </a:cubicBezTo>
                <a:cubicBezTo>
                  <a:pt x="8034" y="1041"/>
                  <a:pt x="8034" y="1160"/>
                  <a:pt x="8083" y="1328"/>
                </a:cubicBezTo>
                <a:cubicBezTo>
                  <a:pt x="8127" y="1482"/>
                  <a:pt x="8158" y="1478"/>
                  <a:pt x="8189" y="1610"/>
                </a:cubicBezTo>
                <a:cubicBezTo>
                  <a:pt x="8255" y="1883"/>
                  <a:pt x="8281" y="2166"/>
                  <a:pt x="8370" y="2435"/>
                </a:cubicBezTo>
                <a:cubicBezTo>
                  <a:pt x="8356" y="2483"/>
                  <a:pt x="8334" y="2581"/>
                  <a:pt x="8334" y="2581"/>
                </a:cubicBezTo>
              </a:path>
            </a:pathLst>
          </a:custGeom>
          <a:noFill/>
          <a:ln w="25560">
            <a:solidFill>
              <a:srgbClr val="3333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953440" y="4765680"/>
            <a:ext cx="1749600" cy="3996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ahenduv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84320" y="2281320"/>
            <a:ext cx="3351240" cy="3024000"/>
          </a:xfrm>
          <a:custGeom>
            <a:avLst/>
            <a:gdLst/>
            <a:ahLst/>
            <a:rect l="l" t="t" r="r" b="b"/>
            <a:pathLst>
              <a:path w="9307" h="8402">
                <a:moveTo>
                  <a:pt x="0" y="101"/>
                </a:moveTo>
                <a:cubicBezTo>
                  <a:pt x="833" y="0"/>
                  <a:pt x="1623" y="167"/>
                  <a:pt x="2434" y="317"/>
                </a:cubicBezTo>
                <a:cubicBezTo>
                  <a:pt x="3373" y="489"/>
                  <a:pt x="4436" y="432"/>
                  <a:pt x="5332" y="780"/>
                </a:cubicBezTo>
                <a:cubicBezTo>
                  <a:pt x="5557" y="961"/>
                  <a:pt x="5962" y="1212"/>
                  <a:pt x="6227" y="1318"/>
                </a:cubicBezTo>
                <a:cubicBezTo>
                  <a:pt x="6377" y="1380"/>
                  <a:pt x="6434" y="1384"/>
                  <a:pt x="6549" y="1499"/>
                </a:cubicBezTo>
                <a:cubicBezTo>
                  <a:pt x="6752" y="1702"/>
                  <a:pt x="6871" y="1953"/>
                  <a:pt x="7047" y="2178"/>
                </a:cubicBezTo>
                <a:cubicBezTo>
                  <a:pt x="7149" y="2628"/>
                  <a:pt x="6994" y="2055"/>
                  <a:pt x="7228" y="2535"/>
                </a:cubicBezTo>
                <a:cubicBezTo>
                  <a:pt x="7440" y="2967"/>
                  <a:pt x="6964" y="2421"/>
                  <a:pt x="7480" y="2928"/>
                </a:cubicBezTo>
                <a:cubicBezTo>
                  <a:pt x="7568" y="3157"/>
                  <a:pt x="7709" y="3250"/>
                  <a:pt x="7837" y="3466"/>
                </a:cubicBezTo>
                <a:cubicBezTo>
                  <a:pt x="7934" y="3629"/>
                  <a:pt x="7965" y="3792"/>
                  <a:pt x="8124" y="3894"/>
                </a:cubicBezTo>
                <a:cubicBezTo>
                  <a:pt x="8238" y="4132"/>
                  <a:pt x="8348" y="4361"/>
                  <a:pt x="8445" y="4608"/>
                </a:cubicBezTo>
                <a:cubicBezTo>
                  <a:pt x="8476" y="4846"/>
                  <a:pt x="8490" y="5053"/>
                  <a:pt x="8622" y="5256"/>
                </a:cubicBezTo>
                <a:cubicBezTo>
                  <a:pt x="8737" y="5807"/>
                  <a:pt x="8887" y="6354"/>
                  <a:pt x="9019" y="6901"/>
                </a:cubicBezTo>
                <a:cubicBezTo>
                  <a:pt x="9050" y="7258"/>
                  <a:pt x="9085" y="7629"/>
                  <a:pt x="9195" y="7973"/>
                </a:cubicBezTo>
                <a:cubicBezTo>
                  <a:pt x="9226" y="8065"/>
                  <a:pt x="9239" y="8167"/>
                  <a:pt x="9266" y="8259"/>
                </a:cubicBezTo>
                <a:cubicBezTo>
                  <a:pt x="9279" y="8308"/>
                  <a:pt x="9306" y="8401"/>
                  <a:pt x="9306" y="8401"/>
                </a:cubicBezTo>
              </a:path>
            </a:pathLst>
          </a:custGeom>
          <a:noFill/>
          <a:ln w="25560">
            <a:solidFill>
              <a:srgbClr val="3333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124080" y="342900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hesuunaliselt lahenduv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705720" y="579132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ttemonotoon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029200" y="3886200"/>
            <a:ext cx="304920" cy="304920"/>
          </a:xfrm>
          <a:prstGeom prst="ellipse">
            <a:avLst/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5254560" y="2209680"/>
            <a:ext cx="1225440" cy="16765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400800" y="1143000"/>
            <a:ext cx="2446200" cy="1009440"/>
          </a:xfrm>
          <a:prstGeom prst="roundRect">
            <a:avLst>
              <a:gd name="adj" fmla="val 13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lassika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edikaatarvutu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re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ollerith’i perfokaar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709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890: Herman Hollerith: perfokaartidega masin USA rahvaloenduse andmete töötlemisek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ollerith’i firmast tekkis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IBM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202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352680" y="1477800"/>
            <a:ext cx="2286000" cy="24084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819520" y="5105520"/>
            <a:ext cx="3429000" cy="1066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aakumtoru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00: vaakumdioo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ee de Forest: 1906: vaakumtrioo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209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ulgateooria: Georg Canto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as 1845-1918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ulgateooria rajaj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aradokside avastamine matemaatika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temaatika alused korraga ebakindla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214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ussell &amp; Whitehea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10-1913: massiivne loogikatrakta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incipia Mathematic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aradoksid -&gt; tüüpide teeori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ilosoofilised vaated: logitsism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219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ormalism; Hilber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 ja matemaatik: 1862-1943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ilosoofilistelt vaadetel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ormali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ilberti programm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” matemaatikale kindlate aluste rajamisek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temaatika alused tuleb esitada loogika keeles, range aksiomaatikana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uleb tõestada, et nimetatud aksiomaatika ei ole vastuoluline, st temast ei ole võimalik tuletada korraga mingit väidet A ja sellesama väite eitust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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224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uitsionism: Brouwer &amp; Heyting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i aktsepteeri näitek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v -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- -A &lt;=&gt; 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((A =&gt; B) =&gt; A) =&gt; A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229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vu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rvud kontidel: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eriood 20,000 - 30,000 aastat tagasi Cro-Magnon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nimese ilmumin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abüloonia: positsiooniline 60-süsteem 1900 kuni 1800 BC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iade arvusüsteem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ull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abüloonia 300 BC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dia 600 A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baku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abüloonia 1,000 BC kuni 500 BC,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60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876920" y="2514600"/>
            <a:ext cx="3047760" cy="1828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ormaalne süsteem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rski ja Carnap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Süntaks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Tuletamisreeglite süsteem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Semantika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234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äielikkus ja mittetäielikk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6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rt Gödel (1906-1978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0: loogika baaskeel predikaatarvutus on täielik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1: formaalne aritmeetika ei ole täielik, seda ei saagi lõpliku formaalse süsteemiga kirjeldad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õestuse ide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Tõestuse alusidee on tuntud valetaja paradoks: kas väide ``ma praegu valetan'' on tõene või mitte? Lihtne arutlus näitab, et ta ei saa olla kumbagi.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oostame nüüd sellise aritmeetilise väite A, mis ütleb, et seesama A ei ole tõestatav (see väide ei ütle, et A ei ole tõsi!). Siis ei saa väide A ise olla vale. Tõepoolest, kui A oleks vale, siis A sisu kohaselt peaks A olema tõestatav. Kuna me valesid väiteid tõestada ei saa, siib peabki A olema õige. Kuna A on õige, peab kehtima see, mida A väidab: A pole tõestatav. Tõepoolest, kui A oleks tõestatav, siis oleks A sisu ("A ei ole tõestatav") vale, see on aga, nagu näidatud, võimatu. Kokkuvõtteks, A on õige, aga ei A ega A eitus pole tõestatavad.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239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000" spc="-1" strike="noStrike">
                <a:solidFill>
                  <a:srgbClr val="000099"/>
                </a:solidFill>
                <a:latin typeface="Bitstream Vera Sans"/>
              </a:rPr>
              <a:t>Turingi masin &amp; Churchi lambda-arvutus</a:t>
            </a:r>
            <a:endParaRPr b="1" lang="en-US" sz="20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57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5-1937: artikkel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uringi masinast: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universaalsus, mittelahenduvu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6: Churchi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ambda-arvutu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Churchi tee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universaalsus, mittelahenduvus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244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3454560" y="1952640"/>
            <a:ext cx="2286000" cy="2695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annevar Bush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T: 1930-1935-1937: Differential Analyzer dif. võrrandite lahendamisek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iimane versioon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aalus 100 tonni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2000 elektronlampi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150 mootorit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tuhanded releed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250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udwig Wittgenstei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8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889-1951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alüütilise filosoofia juhtkuju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nustas loogilise positivismi ja Viini ringi teket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õtestatud tekst koosneb kas (a) loogika ja matemaatika formaalsetest väidetest või (b) konkreetsete teadusharude fakte esitavatest lausetest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sugusel fakti esitaval väitel on sisu ainult siis, kui on võimalik öelda, kuidas selle väite kehtivust kontrollida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etafüüsilised väited, mis ei lange punktide 1 ja 2 alla, on sisutud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õik moraali, esteetikat ja religiooni käsitlevad väited on mittekontrollitavad ja mõttetud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255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laude Shanno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T, 1938, Shannon’i magistritöö sidu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oole algebr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ektrilülitid ja -skeem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itid ja info kodeerimis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fo otsimise algoritm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260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tanasoff’i arvut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ohn Vincent Atanasoff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9-1942: esimene elektronarvuti?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265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Zuse arvut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nrad Zus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41-1944: Z3, Z4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leedega digitaalarvuti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270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olossus vs Geheimfernschreiber</a:t>
            </a:r>
            <a:r>
              <a:rPr b="1" lang="en-GB" sz="2400" spc="-1" strike="noStrike">
                <a:solidFill>
                  <a:srgbClr val="808080"/>
                </a:solidFill>
                <a:latin typeface="Bitstream Vera Sans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ndonis 1943: saksa allveelaevade salakirja dekodeerimisek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800 elektronlampi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deoloogia ja matemaatika töötas välja Alan Turing, kes varem juhtis lihtsama ENIGMA dekodeerimi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275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ark 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oward Aiken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BM’i elektriline (releed) digitaalne arvuti MARK I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9-1944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750.000 komponenti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5 tonni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280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2590920" y="2743200"/>
            <a:ext cx="4647960" cy="3137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ogika olem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72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Loogika on teadus mõtlemise alustest.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Arvutid on mõtlemise masinad.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Loogika ja arvutamine on väga tihedalt seotud.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Loogika uurib mõtlemise </a:t>
            </a:r>
            <a:r>
              <a:rPr b="0" i="1" lang="en-GB" sz="1600" spc="-1" strike="noStrike">
                <a:solidFill>
                  <a:srgbClr val="000000"/>
                </a:solidFill>
                <a:latin typeface="Bitstream Vera Sans"/>
              </a:rPr>
              <a:t>paratamatuid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aspekte ehk seda, mis üldse teeb mõtlemisest mõtlemise ehk õige mõtlemise.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Mõeldav ja mittemõeldav: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``kui kõik inimesed on surelikud ja kui mina olen inimene, siis ma olen surelik''.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``kui kõik inimesed on surelikud ja kui mina olen inimene, siis ma ei ole surelik''.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Vastaspoolused: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itstream Vera Sans"/>
              </a:rPr>
              <a:t>Puhta loogika eesmärk on olla õige kõigis võimalikes maailmades, mitte ainult selles veider-segases vaevarikkas maailmas, kuhu juhus meid on heitnud. Loogik peab eneses alal hoidma teatud annuse jumalikkust: ta ei tohi alanduda selleni, et teha järeldusi enese ümber nähtust. </a:t>
            </a:r>
            <a:br>
              <a:rPr sz="1200"/>
            </a:br>
            <a:r>
              <a:rPr b="0" i="1" lang="en-GB" sz="1200" spc="-1" strike="noStrike">
                <a:solidFill>
                  <a:srgbClr val="000000"/>
                </a:solidFill>
                <a:latin typeface="Bitstream Vera Sans"/>
              </a:rPr>
              <a:t>B.Russell, ``Sissejuhatus matemaatilisse filosoofiasse''.</a:t>
            </a:r>
            <a:r>
              <a:rPr b="0" lang="en-GB" sz="1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itstream Vera Sans"/>
              </a:rPr>
              <a:t>Kui loogika oleks olemas isegi juhul, kui maailma ei oleks, siis kuidas saab loogika olemas olla olukorras, kus maailm on olemas?</a:t>
            </a:r>
            <a:br>
              <a:rPr sz="1200"/>
            </a:br>
            <a:r>
              <a:rPr b="0" i="1" lang="en-GB" sz="1200" spc="-1" strike="noStrike">
                <a:solidFill>
                  <a:srgbClr val="000000"/>
                </a:solidFill>
                <a:latin typeface="Bitstream Vera Sans"/>
              </a:rPr>
              <a:t>L.Wittgenstein, ``Tractatus Logico-Philosophicus''</a:t>
            </a:r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3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66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ogika a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31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Fundamentaalseid mõtlemismeetodeid: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Deduktsioon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Induktsioon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Matemaatika sissetulek: muutujad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Lausemuutujad: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``kui A ja B, siis A''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``ei ole tõsi, et A ja mitte A'’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``kui A-st järeldub B, ning A on tõsi, siis ka B on tõsi''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Omadused: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Symbol" charset="2"/>
              <a:buChar char="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``Kui kõigil asjadel on omadus P, siis on olemas asi, millel on omadus P''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Symbol" charset="2"/>
              <a:buChar char="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??? ``Kui on olemas asi, millel on omadus P, siis on kõigil asjadel omadus P''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71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ogika tek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armenides (5 sajand e.m.a.) : kasutas pikki loogilisi põhjendusi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Zenon Eleast (5 sajand e.m.a.)  - apooriad/paradoks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ofistid -  Sokrates (470-399 e.m.a)  - Platon (428/427 - 348/347 e.m.a)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Aristoteles: väidete struktuur kui iseseisev uurimisobjekt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76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ogika teke: Aristotel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23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üllogismide näited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. eeldus: iga koer on imetaja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2. eeldus: mõned neljajalgsed on koerad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äreldus: mõned neljajalgsed on imetajad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. eeldus: iga anarhist on süsteemi vastane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2. eeldus: mõned poliitikud on anarhistid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äreldus: mõned poliitikud on süsteemi vastased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uletuse struktuuri võib seega esitada muutujate x,y ja z abil ning tuletus on õige sõltumata fraasidest, millega neid muutujaid asendad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. eeldus: iga x on y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2. eeldus: mõni z on x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äreldus: mõni z on y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81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istotelese “kategoorilised väited”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4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``Iga b on a''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``Mitte ükski b pole a''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``Mõni b on a''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``Mõni b ei ole a''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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süllogism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on väitlus, kus mingitest etteantud väidetest (eeldustest) järeldub paratamatult uus väide. Aristotelese puhul alati kaks kategoorilist eeldust, üks kategooriline järeldu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86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toikud: lausearvut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19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toikud uurisid, kuidas saab loogiliste sidesõnade (ja, ei, või, kui...siis) abil lihtsamatest lausetest keerulisemaid kokku panna ja kuidas näidata selliselt moodustatud lausete õigsust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 esimene, siis teine; esimene; järelikult teine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((A </a:t>
            </a:r>
            <a:r>
              <a:rPr b="1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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 esimene, siis teine; mitte teine; järelikult mitte esimene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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tte korraga esimene ja teine; esimene; järelikult mitte teine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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91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nel Tammet</cp:lastModifiedBy>
  <cp:revision>0</cp:revision>
  <dc:subject/>
  <dc:title> </dc:title>
</cp:coreProperties>
</file>